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9887-7740-4FD9-9458-C521D3B0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71C4-8811-47AC-93F0-7ABBF633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BC9-3091-455E-A9DF-61EB6DA4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AA8-0B41-43E5-A741-C95B94CB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0380-9550-40AC-AA65-1233A717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7C15-AE66-4622-99BC-04C1F13FD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F93A-EB20-4CB1-8368-092ACFD2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0048-742A-4B34-A42E-0CF20B15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A40A-CE1F-4FF4-9DBB-4867AE8E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7214-9714-4E55-AD1B-90EADF55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60F0-B172-47D5-BE8B-5F5C3CD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47D2-DB7D-45FC-838C-6FFF67EE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E523-1D79-4589-9F89-469F058C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BE48-F5EC-423D-AA4A-86B0F474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C00B-EF50-4F9D-BFFA-BE8FBC80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3D914-E212-4016-B3C3-8F5396C5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5E23-C7B6-4C33-8A33-A83C81C0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2D57-1BCC-448E-9EA1-991A8145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AA65-5DCA-4B1F-B71D-9D5A1065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B37-B9B0-42C7-A70A-6D64682D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94D9-872B-480A-A01B-F6E4157A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417E-A068-4F04-8C5F-D071B12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741-90A8-42F6-9E54-3E751E28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548-740A-4634-8E45-D9D87FF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F9B1-3D76-4202-925C-0C33289EFD0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2503-6A35-4DBB-B701-F31AA885756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1.xml"/><Relationship Id="rId3" Type="http://schemas.openxmlformats.org/officeDocument/2006/relationships/slide" Target="slide7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4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eat Expect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y Charles Dicke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 “I will never stir from your side, when I am suffered to be near you. Please God, I will be as true to you as you have been to me!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lynn</cp:lastModifiedBy>
  <dcterms:modified xsi:type="dcterms:W3CDTF">2009-03-15T17:01:38Z</dcterms:modified>
  <cp:revision>29</cp:revision>
  <dc:subject/>
  <dc:title>Are You Smarter  Than a 5th Grader?</dc:title>
</cp:coreProperties>
</file>